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ECD2-165C-43E9-97F6-3816024CC3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DC88-33E3-40A2-97D6-4158235427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6264-4380-43DC-B4E2-191C10532A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8DE9-A97B-471E-B479-D66B63877E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FE4A-31D0-4859-AB24-F010B06F80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E10E-D796-47C5-A888-9D4519AD78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F7CC-B1EA-4152-83EF-A1A09E6E03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0DEA-C2F3-44FF-96AE-8F047F5908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58D3-D077-4D7F-B341-418B89AFED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0B220-D29B-4830-98AF-EFB5094C8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5364A-145D-4940-A2EF-1B6C7CC0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F9A1F-FA70-4323-8DBF-12FE7C495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4D7FF-46D2-4E15-B656-547DEEE33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3EB82-31DB-485D-9A20-68BBD8E8C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8E74B-9E55-4FCD-8BF1-46EBBCC35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4D54C-E570-4A24-939E-2EB875B2D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FA4B1-744A-4D6D-A48E-A091C2236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16F0F-FD04-46AE-B52C-C937960D1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34906-D5B9-44D0-91E7-5C1785932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ACE4-121F-41A6-B62C-3860DA1C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F5DBC-D4A6-4118-87A0-67845D508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1673-FFD0-4DA4-B190-36F2B678E0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8:19:27Z</dcterms:modified>
  <cp:revision>56</cp:revision>
  <dc:subject/>
  <dc:title>Protecting the planet from climate-change</dc:title>
</cp:coreProperties>
</file>